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commentAuthors.xml><?xml version="1.0" encoding="utf-8"?>
<p:cmAuthorLst xmlns:p="http://schemas.openxmlformats.org/presentationml/2006/main">
  <p:cmAuthor id="0" name="obermeier" initials="o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01T00:35:02.803000000" idx="1">
    <p:pos x="116" y="2775"/>
    <p:text>Export: Overview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81E8-B9C5-45A2-97C9-CF21105637B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4B37-C909-4BF5-AAE3-725BEE45213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64880" y="81000"/>
            <a:ext cx="9575640" cy="18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8920" y="108000"/>
            <a:ext cx="5759640" cy="395280"/>
          </a:xfrm>
          <a:prstGeom prst="rect">
            <a:avLst/>
          </a:prstGeom>
          <a:solidFill>
            <a:srgbClr val="d9d9d9"/>
          </a:solidFill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WT – Architecture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6"/>
          <p:cNvSpPr/>
          <p:nvPr/>
        </p:nvSpPr>
        <p:spPr>
          <a:xfrm>
            <a:off x="179280" y="3600360"/>
            <a:ext cx="2160720" cy="719280"/>
          </a:xfrm>
          <a:prstGeom prst="rect">
            <a:avLst/>
          </a:prstGeom>
          <a:solidFill>
            <a:srgbClr val="d1d1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9040" bIns="46800" anchor="t">
            <a:no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awt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Basic Image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1"/>
          <p:cNvSpPr/>
          <p:nvPr/>
        </p:nvSpPr>
        <p:spPr>
          <a:xfrm>
            <a:off x="3600360" y="2879640"/>
            <a:ext cx="2158920" cy="719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6800" anchor="t">
            <a:no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fits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FITS Binary Ext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2"/>
          <p:cNvSpPr/>
          <p:nvPr/>
        </p:nvSpPr>
        <p:spPr>
          <a:xfrm>
            <a:off x="179280" y="2160720"/>
            <a:ext cx="2159280" cy="71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6800" anchor="t">
            <a:no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awtFl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FLIR format 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3"/>
          <p:cNvSpPr/>
          <p:nvPr/>
        </p:nvSpPr>
        <p:spPr>
          <a:xfrm>
            <a:off x="3600360" y="3598920"/>
            <a:ext cx="2158920" cy="7189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6800" anchor="t">
            <a:no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img::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Image to Pho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2"/>
          <p:cNvSpPr/>
          <p:nvPr/>
        </p:nvSpPr>
        <p:spPr>
          <a:xfrm>
            <a:off x="179280" y="720720"/>
            <a:ext cx="2159280" cy="719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6800" anchor="t">
            <a:no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awt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RAW format 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2"/>
          <p:cNvSpPr/>
          <p:nvPr/>
        </p:nvSpPr>
        <p:spPr>
          <a:xfrm>
            <a:off x="179280" y="2879640"/>
            <a:ext cx="2159280" cy="719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6800" anchor="t">
            <a:no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awt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FITS format 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2"/>
          <p:cNvSpPr/>
          <p:nvPr/>
        </p:nvSpPr>
        <p:spPr>
          <a:xfrm>
            <a:off x="179280" y="1440000"/>
            <a:ext cx="2159280" cy="71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6800" anchor="t">
            <a:no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awtP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PM/PGM format 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Gerade Verbindung mit Pfeil 2"/>
          <p:cNvCxnSpPr>
            <a:stCxn id="45" idx="3"/>
            <a:endCxn id="48" idx="1"/>
          </p:cNvCxnSpPr>
          <p:nvPr/>
        </p:nvCxnSpPr>
        <p:spPr>
          <a:xfrm flipV="1">
            <a:off x="2340000" y="3958200"/>
            <a:ext cx="1260720" cy="216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53" name="Gerade Verbindung mit Pfeil 18"/>
          <p:cNvCxnSpPr>
            <a:stCxn id="50" idx="3"/>
            <a:endCxn id="46" idx="1"/>
          </p:cNvCxnSpPr>
          <p:nvPr/>
        </p:nvCxnSpPr>
        <p:spPr>
          <a:xfrm>
            <a:off x="2338560" y="3239280"/>
            <a:ext cx="126216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4T22:17:48Z</dcterms:created>
  <dc:creator>Paul Obermeier</dc:creator>
  <dc:description/>
  <dc:language>en-US</dc:language>
  <cp:lastModifiedBy>Paul Obermeier</cp:lastModifiedBy>
  <dcterms:modified xsi:type="dcterms:W3CDTF">2022-07-11T11:16:24Z</dcterms:modified>
  <cp:revision>76</cp:revision>
  <dc:subject>Figures for Cawt User Manual</dc:subject>
  <dc:title>CawtFigures</dc:title>
</cp:coreProperties>
</file>